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23060-F4D7-4B65-AC60-4892D3317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BC3BD-8DDC-433C-9885-878DFEC27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8D8BA-A159-4CFF-B83D-79C1A70D9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3C5C1-56EB-45B4-87E3-87B4CC609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DDFFC-EAD3-4C06-BA4C-C4106D224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268DB-3D6C-4CD9-AD0B-5361956F7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A1E3F-0F45-4DDE-94EC-905E66770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0FEA0-ED1B-4743-8BD1-59FC3181B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FB4F3-A5C9-4396-BDAB-4E74D1830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02705-DFE1-4333-9C33-C3A6B9F6C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AD047-DBD1-418B-A394-649E2D8E0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92403-BBFF-4A86-914D-9A865526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B6CE9-0016-4A5E-ADD6-7E8C088D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8E3C3-D8CB-4BE2-AA49-DD639CBFF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4EE6A-970C-4E9A-8985-3031AC9E6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A0017-5940-4BA1-A048-D29E2D139D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192E7-F36E-4257-B537-5D3C2806C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2707-3988-4E0F-85B5-26A3807F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6164-016D-4101-A520-EF401965D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01BE2-0E7F-486C-A796-1C8C8B8AF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E931-B626-402C-BAC6-EE5444480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00A6-D0A8-434A-B7D2-D5F4AFAB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9A43-9060-4D5E-B0A8-492FFF675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2DC7-6A2A-47B9-BE26-34DC003C0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E499-44CC-4AA5-BFD3-6FDC27EDFC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6A11-ED81-479F-A139-EB4006E42A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7/7c/Tzitsernakapert.jpg" TargetMode="External"/><Relationship Id="rId3" Type="http://schemas.openxmlformats.org/officeDocument/2006/relationships/image" Target="../media/image2.jpeg"/><Relationship Id="rId4" Type="http://schemas.openxmlformats.org/officeDocument/2006/relationships/hyperlink" Target="http://en.wikipedia.org/wiki/Ottoman_Empire"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meniapedia.org/index.php?title=Image:Garni_temple-dcp1758.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meniapedia.org/index.php?title=Image:Sasuntsi_tavit-alexouns.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hris Garland</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ike Miller</a:t>
            </a:r>
            <a:endParaRPr b="0" lang="en-US" sz="3200" spc="-1" strike="noStrike">
              <a:solidFill>
                <a:srgbClr val="ffffff"/>
              </a:solidFill>
              <a:latin typeface="Tahoma"/>
            </a:endParaRPr>
          </a:p>
        </p:txBody>
      </p:sp>
      <p:sp>
        <p:nvSpPr>
          <p:cNvPr id="83" name=""/>
          <p:cNvSpPr txBox="1"/>
          <p:nvPr/>
        </p:nvSpPr>
        <p:spPr>
          <a:xfrm>
            <a:off x="1752480" y="762120"/>
            <a:ext cx="55627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rmeni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story</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Major event in Armenia is the Armenian Genocide which was when Turks came into Armenia and massacred the Armenians. 650,000 to 1.5 million were killed.</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is there history with the Soviet Union. They had controvesy with them for many years over land, cities, money, and natural resources.</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urrent event in Armenia is the Yerevan election that is set for May 21</a:t>
            </a:r>
            <a:r>
              <a:rPr b="0" lang="en-US" sz="2800" spc="-1" strike="noStrike" baseline="30000">
                <a:solidFill>
                  <a:srgbClr val="ffffff"/>
                </a:solidFill>
                <a:latin typeface="Tahoma"/>
              </a:rPr>
              <a:t>st.</a:t>
            </a:r>
            <a:r>
              <a:rPr b="0" lang="en-US" sz="2800" spc="-1" strike="noStrike">
                <a:solidFill>
                  <a:srgbClr val="ffffff"/>
                </a:solidFill>
                <a:latin typeface="Tahoma"/>
              </a:rPr>
              <a:t> This is were they elect municipal assemb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conomy</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ve Big industries that require many laborers and equipment. They are a huge manufacturing country.</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major exports are $218 million dollars worth of diamonds, scrap metal, machinery and equipment.</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literacy rate is 99.4%. </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Currency is the Dram. Similar to the doll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ulture</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have little traditions in clothes but in foods they eat food spiced with many herbs and spice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Specialties include khortik, Salads with lolik, and other dishes that include zeitu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peak Armenian in Armenia.</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mostly christi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aces to Visit</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the memorials and statues and temples listed earlier.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wildlife zoos and museu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most historical site is Yerevan, their capit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central.com/dining.as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en.wikipedia.org/wiki/Armen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armstat.am/en/?nid=81&amp;id=76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en.wikipedia.org/wiki/Armenian_Soviet_Encycloped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Geography of Armenia</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tion: Armenia is found in the continent of Asi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in the region of the middle ea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landmarks are Tsitsernakaberd : Armenian Genocide Memorial, Garni Temple, and Sasuntsi Dav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File:Tzitsernakapert.jpg">
            <a:hlinkClick r:id="rId2"/>
          </p:cNvPr>
          <p:cNvPicPr/>
          <p:nvPr/>
        </p:nvPicPr>
        <p:blipFill>
          <a:blip r:embed="rId3"/>
          <a:stretch/>
        </p:blipFill>
        <p:spPr>
          <a:xfrm>
            <a:off x="0" y="0"/>
            <a:ext cx="9296280" cy="6937200"/>
          </a:xfrm>
          <a:prstGeom prst="rect">
            <a:avLst/>
          </a:prstGeom>
          <a:ln w="0">
            <a:noFill/>
          </a:ln>
        </p:spPr>
      </p:pic>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sitsernakaberd : Armenian Genocide Memorial</a:t>
            </a:r>
            <a:endParaRPr b="0" lang="en-US" sz="4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memorial dedicated to the victims of the Armenian Genocide; it is located on a hill overlooking Yerevan, Armenia. Every year on April 24th, hundreds of thousands of Armenians gather here to remember the victims of the 1915 Armenian Genocide that took place in the Ottoman</a:t>
            </a:r>
            <a:r>
              <a:rPr b="0" lang="en-US" sz="3200" spc="-1" strike="noStrike" u="sng">
                <a:solidFill>
                  <a:srgbClr val="00ccff"/>
                </a:solidFill>
                <a:uFillTx/>
                <a:latin typeface="Tahoma"/>
                <a:hlinkClick r:id="rId4"/>
              </a:rPr>
              <a:t> Empire</a:t>
            </a:r>
            <a:r>
              <a:rPr b="0" lang="en-US" sz="3200" spc="-1" strike="noStrike" u="sng">
                <a:solidFill>
                  <a:srgbClr val="ffffff"/>
                </a:solidFill>
                <a:uFillTx/>
                <a:latin typeface="Tahoma"/>
              </a:rPr>
              <a:t> carried out by the Turkish governm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Garni Temple">
            <a:hlinkClick r:id="rId2"/>
          </p:cNvPr>
          <p:cNvPicPr/>
          <p:nvPr/>
        </p:nvPicPr>
        <p:blipFill>
          <a:blip r:embed="rId3"/>
          <a:stretch/>
        </p:blipFill>
        <p:spPr>
          <a:xfrm>
            <a:off x="0" y="0"/>
            <a:ext cx="9144000" cy="6858000"/>
          </a:xfrm>
          <a:prstGeom prst="rect">
            <a:avLst/>
          </a:prstGeom>
          <a:ln w="0">
            <a:noFill/>
          </a:ln>
        </p:spPr>
      </p:pic>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arni Temple</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temple was built in the 1</a:t>
            </a:r>
            <a:r>
              <a:rPr b="0" lang="en-US" sz="3200" spc="-1" strike="noStrike" baseline="30000">
                <a:solidFill>
                  <a:srgbClr val="ffffff"/>
                </a:solidFill>
                <a:latin typeface="Tahoma"/>
              </a:rPr>
              <a:t>st</a:t>
            </a:r>
            <a:r>
              <a:rPr b="0" lang="en-US" sz="3200" spc="-1" strike="noStrike">
                <a:solidFill>
                  <a:srgbClr val="ffffff"/>
                </a:solidFill>
                <a:latin typeface="Tahoma"/>
              </a:rPr>
              <a:t> century A.D. by the Armenian King Tiridates with the money he got after meeting Emperor Nero in Rom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679 an earthquake destroyed the temple, and was reconstructed in Soviet tim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Sasuntsi Davit statue in Yerevan by Alex Ounanians © All rights reserved. .">
            <a:hlinkClick r:id="rId2"/>
          </p:cNvPr>
          <p:cNvPicPr/>
          <p:nvPr/>
        </p:nvPicPr>
        <p:blipFill>
          <a:blip r:embed="rId3"/>
          <a:stretch/>
        </p:blipFill>
        <p:spPr>
          <a:xfrm>
            <a:off x="0" y="0"/>
            <a:ext cx="9144000" cy="6870600"/>
          </a:xfrm>
          <a:prstGeom prst="rect">
            <a:avLst/>
          </a:prstGeom>
          <a:ln w="0">
            <a:noFill/>
          </a:ln>
        </p:spPr>
      </p:pic>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asuntsi Davit</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atue of Sasuntsi Davit on horseback is located at the Sasuntsi Davit Metro station on Tigran Mets Street in Yereva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of Sasun was an epic Armenian folk her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6172200" y="76320"/>
            <a:ext cx="2857680" cy="2857320"/>
          </a:xfrm>
          <a:prstGeom prst="rect">
            <a:avLst/>
          </a:prstGeom>
          <a:ln w="0">
            <a:noFill/>
          </a:ln>
        </p:spPr>
      </p:pic>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ld life</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nts found in Armenia have very many varieties such as their fruits and vegetabl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fruits of Armenia are wild cherries, pomegranates, apricots, and European pears.  </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of their trees include White and Black Poplar trees, and the Norway Maple.</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3"/>
          <a:stretch/>
        </p:blipFill>
        <p:spPr>
          <a:xfrm>
            <a:off x="762120" y="152280"/>
            <a:ext cx="16365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28600" y="2057400"/>
            <a:ext cx="3952800" cy="4486320"/>
          </a:xfrm>
          <a:prstGeom prst="rect">
            <a:avLst/>
          </a:prstGeom>
          <a:ln w="0">
            <a:noFill/>
          </a:ln>
        </p:spPr>
      </p:pic>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ld Life</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al life in Armenia includes Wild Boar, Porcupines , and various species of lizards, Snakes and numerous species of birds.</a:t>
            </a:r>
            <a:endParaRPr b="0" lang="en-US" sz="3200" spc="-1" strike="noStrike">
              <a:solidFill>
                <a:srgbClr val="ffffff"/>
              </a:solidFill>
              <a:latin typeface="Tahoma"/>
            </a:endParaRPr>
          </a:p>
        </p:txBody>
      </p:sp>
      <p:pic>
        <p:nvPicPr>
          <p:cNvPr id="102" name="" descr=""/>
          <p:cNvPicPr/>
          <p:nvPr/>
        </p:nvPicPr>
        <p:blipFill>
          <a:blip r:embed="rId3"/>
          <a:stretch/>
        </p:blipFill>
        <p:spPr>
          <a:xfrm>
            <a:off x="5029200" y="3733920"/>
            <a:ext cx="3805200" cy="29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ter and Natural Resource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nia has many lakes and riv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nia has many massive earthquakes and droughts year round, these are some risks of living he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 resources include small deposittis of gold, copper, molybdenum, zinc, alum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ment</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nia is democratic republic nation, uk</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ident of the republic is Serzh Sargsy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ime minister is Tigran Sargsy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life expectancy is 60-75</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is 3,231,9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6:10:34Z</dcterms:created>
  <dc:creator>michaeltmiller</dc:creator>
  <dc:description/>
  <dc:language>en-US</dc:language>
  <cp:lastModifiedBy>michaeltmiller</cp:lastModifiedBy>
  <dcterms:modified xsi:type="dcterms:W3CDTF">2009-02-24T19:16:18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